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6A0-7746-4838-81BD-AF65044F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82F-771D-413A-B792-0C3E1A21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0E2-9720-4DF3-AC1C-1910DF33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2C4-4C79-485A-BDF1-1E87913E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38A-2C29-40C2-BC20-D5F83BF8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20D-E334-4170-9B52-A82C56EE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D15-D05E-48B9-B4F0-23069936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9B1-D87E-4C66-AC7C-F66455B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E7C-78DC-463B-B79F-0A26105C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F0D-E14D-479B-AB51-D95B42F4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04E-89C9-4851-A214-09B6E1F1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CE6-7AF8-4B09-A790-97EAAB3D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0D4B-A61D-471D-B53F-4E124B13A0E3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uolivapaa piirto 7"/>
          <p:cNvSpPr/>
          <p:nvPr/>
        </p:nvSpPr>
        <p:spPr>
          <a:xfrm>
            <a:off x="5094360" y="1697040"/>
            <a:ext cx="1531800" cy="153180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uolivapaa piirto 9"/>
          <p:cNvSpPr/>
          <p:nvPr/>
        </p:nvSpPr>
        <p:spPr>
          <a:xfrm>
            <a:off x="3805200" y="3927600"/>
            <a:ext cx="1533600" cy="153324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olivapaa piirto 11"/>
          <p:cNvSpPr/>
          <p:nvPr/>
        </p:nvSpPr>
        <p:spPr>
          <a:xfrm>
            <a:off x="2517840" y="1697040"/>
            <a:ext cx="1531800" cy="153180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yhmä 22"/>
          <p:cNvGrpSpPr/>
          <p:nvPr/>
        </p:nvGrpSpPr>
        <p:grpSpPr>
          <a:xfrm>
            <a:off x="642960" y="0"/>
            <a:ext cx="8501040" cy="6858000"/>
            <a:chOff x="642960" y="0"/>
            <a:chExt cx="8501040" cy="6858000"/>
          </a:xfrm>
        </p:grpSpPr>
        <p:sp>
          <p:nvSpPr>
            <p:cNvPr id="45" name="Puolivapaa piirto 23"/>
            <p:cNvSpPr/>
            <p:nvPr/>
          </p:nvSpPr>
          <p:spPr>
            <a:xfrm>
              <a:off x="5223600" y="1647720"/>
              <a:ext cx="1575360" cy="16149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Kehänuoli 24"/>
            <p:cNvGrpSpPr/>
            <p:nvPr/>
          </p:nvGrpSpPr>
          <p:grpSpPr>
            <a:xfrm>
              <a:off x="6993720" y="2288160"/>
              <a:ext cx="2150280" cy="4325760"/>
              <a:chOff x="6993720" y="2288160"/>
              <a:chExt cx="2150280" cy="4325760"/>
            </a:xfrm>
          </p:grpSpPr>
          <p:pic>
            <p:nvPicPr>
              <p:cNvPr id="47" name="Kehänuoli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8042760" y="2288160"/>
                <a:ext cx="1101240" cy="43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6993720" y="2533680"/>
                <a:ext cx="1757880" cy="351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Puolivapaa piirto 25"/>
            <p:cNvSpPr/>
            <p:nvPr/>
          </p:nvSpPr>
          <p:spPr>
            <a:xfrm>
              <a:off x="3898080" y="3999600"/>
              <a:ext cx="1577160" cy="16167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Kehänuoli 26"/>
            <p:cNvGrpSpPr/>
            <p:nvPr/>
          </p:nvGrpSpPr>
          <p:grpSpPr>
            <a:xfrm>
              <a:off x="642960" y="3573720"/>
              <a:ext cx="3078000" cy="3284280"/>
              <a:chOff x="642960" y="3573720"/>
              <a:chExt cx="3078000" cy="3284280"/>
            </a:xfrm>
          </p:grpSpPr>
          <p:pic>
            <p:nvPicPr>
              <p:cNvPr id="51" name="Kehänuoli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4363200"/>
                <a:ext cx="2130840" cy="24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344600" y="3573720"/>
                <a:ext cx="2376360" cy="267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Puolivapaa piirto 27"/>
            <p:cNvSpPr/>
            <p:nvPr/>
          </p:nvSpPr>
          <p:spPr>
            <a:xfrm>
              <a:off x="2574000" y="1647720"/>
              <a:ext cx="1575360" cy="16149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Kehänuoli 28"/>
            <p:cNvGrpSpPr/>
            <p:nvPr/>
          </p:nvGrpSpPr>
          <p:grpSpPr>
            <a:xfrm>
              <a:off x="2134800" y="0"/>
              <a:ext cx="4131360" cy="2191680"/>
              <a:chOff x="2134800" y="0"/>
              <a:chExt cx="4131360" cy="2191680"/>
            </a:xfrm>
          </p:grpSpPr>
          <p:pic>
            <p:nvPicPr>
              <p:cNvPr id="55" name="Kehänuoli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34800" y="0"/>
                <a:ext cx="3855600" cy="9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2742480" y="449280"/>
                <a:ext cx="3523680" cy="17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Tekstikehys 29"/>
          <p:cNvSpPr/>
          <p:nvPr/>
        </p:nvSpPr>
        <p:spPr>
          <a:xfrm>
            <a:off x="6572160" y="12859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kstikehys 30"/>
          <p:cNvSpPr/>
          <p:nvPr/>
        </p:nvSpPr>
        <p:spPr>
          <a:xfrm>
            <a:off x="4000680" y="600084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ive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ikehys 31"/>
          <p:cNvSpPr/>
          <p:nvPr/>
        </p:nvSpPr>
        <p:spPr>
          <a:xfrm>
            <a:off x="500040" y="2214720"/>
            <a:ext cx="178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Kaaviokuva 33" descr=""/>
          <p:cNvPicPr/>
          <p:nvPr/>
        </p:nvPicPr>
        <p:blipFill>
          <a:blip r:embed="rId4"/>
          <a:stretch/>
        </p:blipFill>
        <p:spPr>
          <a:xfrm>
            <a:off x="1835280" y="981000"/>
            <a:ext cx="6303960" cy="4973760"/>
          </a:xfrm>
          <a:prstGeom prst="rect">
            <a:avLst/>
          </a:prstGeom>
          <a:ln w="0">
            <a:noFill/>
          </a:ln>
        </p:spPr>
      </p:pic>
      <p:sp>
        <p:nvSpPr>
          <p:cNvPr id="61" name="Tekstikehys 34"/>
          <p:cNvSpPr/>
          <p:nvPr/>
        </p:nvSpPr>
        <p:spPr>
          <a:xfrm>
            <a:off x="6372360" y="2060640"/>
            <a:ext cx="1814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ikehys 35"/>
          <p:cNvSpPr/>
          <p:nvPr/>
        </p:nvSpPr>
        <p:spPr>
          <a:xfrm>
            <a:off x="6858000" y="4143240"/>
            <a:ext cx="13860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S AND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kstikehys 36"/>
          <p:cNvSpPr/>
          <p:nvPr/>
        </p:nvSpPr>
        <p:spPr>
          <a:xfrm>
            <a:off x="3635280" y="5445000"/>
            <a:ext cx="936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kstikehys 37"/>
          <p:cNvSpPr/>
          <p:nvPr/>
        </p:nvSpPr>
        <p:spPr>
          <a:xfrm>
            <a:off x="1571760" y="3643200"/>
            <a:ext cx="1487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kstikehys 38"/>
          <p:cNvSpPr/>
          <p:nvPr/>
        </p:nvSpPr>
        <p:spPr>
          <a:xfrm>
            <a:off x="3000240" y="1357200"/>
            <a:ext cx="17146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ANCE AND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9:02:04Z</dcterms:created>
  <dc:creator>Tiina</dc:creator>
  <dc:description/>
  <dc:language>en-US</dc:language>
  <cp:lastModifiedBy>tiina suorsa</cp:lastModifiedBy>
  <dcterms:modified xsi:type="dcterms:W3CDTF">2010-06-08T17:40:59Z</dcterms:modified>
  <cp:revision>16</cp:revision>
  <dc:subject/>
  <dc:title>Dia 1</dc:title>
</cp:coreProperties>
</file>